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10699750" cy="7556500"/>
  <p:notesSz cx="7556500" cy="10699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7556400" cy="106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7556400" cy="1069992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9920"/>
              <a:gd name="textAreaBottom" fmla="*/ 10699560 h 10699920"/>
            </a:gdLst>
            <a:ahLst/>
            <a:rect l="textAreaLeft" t="textAreaTop" r="textAreaRight" b="textAreaBottom"/>
            <a:pathLst>
              <a:path w="21600" h="30585">
                <a:moveTo>
                  <a:pt x="4" y="0"/>
                </a:moveTo>
                <a:arcTo wR="4" hR="4" stAng="16200000" swAng="-5400000"/>
                <a:lnTo>
                  <a:pt x="0" y="30581"/>
                </a:lnTo>
                <a:arcTo wR="4" hR="4" stAng="10800000" swAng="-5400000"/>
                <a:lnTo>
                  <a:pt x="21596" y="3058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Text Box 2"/>
          <p:cNvSpPr/>
          <p:nvPr/>
        </p:nvSpPr>
        <p:spPr>
          <a:xfrm>
            <a:off x="0" y="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dt" idx="22"/>
          </p:nvPr>
        </p:nvSpPr>
        <p:spPr>
          <a:xfrm>
            <a:off x="4280040" y="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ldImg"/>
          </p:nvPr>
        </p:nvSpPr>
        <p:spPr>
          <a:xfrm>
            <a:off x="938160" y="802800"/>
            <a:ext cx="5678640" cy="4010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body"/>
          </p:nvPr>
        </p:nvSpPr>
        <p:spPr>
          <a:xfrm>
            <a:off x="755640" y="5083200"/>
            <a:ext cx="6043680" cy="48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0" y="10163160"/>
            <a:ext cx="32749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sldNum" idx="23"/>
          </p:nvPr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8CA7CB9-C7F2-43D8-9E9B-15F840088D0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E5C8797-9FCB-4B38-975F-84FAB65C849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5B356E-3ADA-4345-9258-6315EA2FD50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7FF9E27-C15B-4095-AD8B-325F314709B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748700F-A7A8-4484-947D-E5A3D02B49F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6664751-457E-444A-A0C2-20BB6666800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280040" y="10163160"/>
            <a:ext cx="327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030E74A-FBB4-4E71-8424-AFBCACB3CEA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938160" y="803160"/>
            <a:ext cx="5680080" cy="40118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55640" y="5082840"/>
            <a:ext cx="6045120" cy="48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E180-591C-4274-9049-D10981A9C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3944-F24F-4886-9A79-1A88E14F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3CAA-FB49-4A1A-8BBF-05281C1AC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D6B9-4224-456B-AEF2-9B96347BC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B64A3-A9F6-4DE8-8218-BF13582AC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D7E1-CFCF-46AB-9DDE-6CFC24BED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B42ED-AEC2-467F-A121-923E550F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C0A5E-9FF2-48A5-B912-E25C2413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A9B6D-1888-4798-AE89-77018C64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18CC-E89C-4600-9993-FCA6A1CD7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FD063-4601-49C5-A5F3-0BD1C514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4A51-9B72-44BE-B63F-9B3D4374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E1B4A-B122-4396-8867-8A45C3BD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A6325-81B8-4023-9136-E1CC2871F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A47D-F889-43C0-8EE9-D2A47E7F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8A2F-AC86-480E-B1E2-AE629CB03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75908-80DB-41A1-A789-903B895F5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64A5FC-04AB-4E6F-A797-B3C7E4F09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F3E0E2-4E40-4642-A0AA-18A7A7C1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4EA99-DCFB-4EA4-A83B-EA1BA2593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A42165-08EB-4AD2-B236-10B5D9E63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ADE47-1E59-40E7-A9A8-C1C7A7C16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ED3E-AABB-4EB3-AE29-13CBB259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90676F-1F3A-4EC8-A925-73D7D9DAA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39ED9A-8F17-436B-8A51-E2903C34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ACA4EF-B5CE-4878-9BD4-CCE23C1D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0F3257-A5A0-4693-BAA1-9F29C167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A9B42A-245D-4E20-843B-FBFF49980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B6C27B-4E34-4F85-B5AD-3FF87D27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9466A-F08D-4429-8976-718FFEDBB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25CD5-B103-492A-BF35-94EC89DE9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50DC38-099E-487E-9B89-6F7E8482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8C4DE-426E-4EF7-9BA3-4688B88FD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D6E2-D077-4CB3-BE14-172B0A512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471FEF-834A-4094-8E50-9328377D3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321F50-27AF-4110-811F-966569DBE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89D71-30F5-47A9-8C3A-B81A32B6C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9A505-BA13-4BEB-B3CC-C8A008A97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4AFFA-B123-4F39-93BC-130FA0EB5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C037F-FF68-425F-9A1C-A86851C6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E1475-5E93-4C19-AAC5-19A4746D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06385-E8DF-4420-AA4A-1434B9708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5ACAC-6BCB-4ED4-846D-1D2DD2631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BF6E23-5A1A-48EF-B0C4-4FD683FF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954B-7569-4548-9290-EA099FDF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596F70-0CFE-4BCF-9145-4311764D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96C7D1-C6B5-41BB-BA7C-AF5C5B31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5386AF-653F-429A-AFB8-9AB015382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2CF148-DD25-438E-8F13-F89F215B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CEDD68-B231-48FF-8597-134CAC902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7E6BE9D-E451-4BFA-AB58-AAE7B83C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E7DFF05-E99D-48A8-81B4-6795AF2D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DE7A4B-CCA5-4CAF-A0DD-CF3B5123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74F1FA-AE77-4A39-AED5-97F3A1A2A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6F8DF4-3C5E-43BC-BE7F-4A276E907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1A05-1262-4047-83A8-CBDE8B522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D2B3C6-59D6-44CC-91B2-B1903150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C455AED-779A-4AEA-87F8-3DBD639D7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201288-FAA8-4BED-9C3B-D4755455D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913FA70-1CD0-4525-A1D6-7BC3563CD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61D001-E9D5-4953-8F56-BD138F71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2C7A14C-B28A-438A-9846-67F03137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17055F-E2D5-4FA5-9C11-64985DF60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A9C5BC-B2EC-4BCA-862B-EEEA6B28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CF19418-75A9-456B-8E7F-9EDCF450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26AFF5-66CB-4C2C-B998-05B9E4A0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F2FB-2DB8-40AC-9F42-AAEBB356E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4EB740-773E-4542-9349-4947D3101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994F42-1442-4D00-B658-03333A311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7F7E54-02D8-451F-AA58-CCFAF4C13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8F08578-B0A1-4D35-9B31-EAD0568D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AA3AEC-6AF0-4910-85C3-3596E55C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89499C0-CAE2-4259-87D4-18E82135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8A6E8C3-CDBC-454F-BC19-F021CA5EA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A1DD3F-0EDE-4B9E-9422-94B07DFF2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534600" y="302760"/>
            <a:ext cx="873756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A43A34-E89D-4504-87D3-FA7DC294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5DA48E7-A945-4B70-9499-B97F2AA1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56AB-C2E5-4D54-8933-4BD06743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962958-9310-4038-A849-A5805EE26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B47555-9D54-4D24-8067-3D914D3F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DF2323-428E-4F57-B5D3-A9368EBD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1920" y="45680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C69D780-4C6B-451D-A488-9FA898A18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348912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443640" y="17636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53460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348912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6443640" y="4568040"/>
            <a:ext cx="281340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9B7F2D-F14E-459A-A7A0-5AA2D131C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460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1920" y="1763640"/>
            <a:ext cx="426384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4600" y="4568040"/>
            <a:ext cx="8737560" cy="256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48EF-4A69-4C29-8A2A-14EE3980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8BFA616-5194-4718-BC25-CCED5C82E796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Conector reto 25"/>
          <p:cNvSpPr/>
          <p:nvPr/>
        </p:nvSpPr>
        <p:spPr>
          <a:xfrm>
            <a:off x="1066500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tângulo 26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Elipse 27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Elipse 28"/>
          <p:cNvSpPr/>
          <p:nvPr/>
        </p:nvSpPr>
        <p:spPr>
          <a:xfrm>
            <a:off x="153180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Elipse 29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Elipse 30"/>
          <p:cNvSpPr/>
          <p:nvPr/>
        </p:nvSpPr>
        <p:spPr>
          <a:xfrm>
            <a:off x="1947960" y="6377040"/>
            <a:ext cx="320400" cy="3031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Elipse 31"/>
          <p:cNvSpPr/>
          <p:nvPr/>
        </p:nvSpPr>
        <p:spPr>
          <a:xfrm>
            <a:off x="2228760" y="495288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9163800" y="1280160"/>
            <a:ext cx="2517840" cy="4464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8406000" y="459432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55088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7B60FFD-4302-4059-8858-59278F1485B7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E53206-1771-41D5-9E1A-E197906960D6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tângulo 12"/>
          <p:cNvSpPr/>
          <p:nvPr/>
        </p:nvSpPr>
        <p:spPr>
          <a:xfrm>
            <a:off x="446040" y="0"/>
            <a:ext cx="712800" cy="75564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Retângulo 14"/>
          <p:cNvSpPr/>
          <p:nvPr/>
        </p:nvSpPr>
        <p:spPr>
          <a:xfrm>
            <a:off x="324000" y="0"/>
            <a:ext cx="122040" cy="75564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Retângulo 16"/>
          <p:cNvSpPr/>
          <p:nvPr/>
        </p:nvSpPr>
        <p:spPr>
          <a:xfrm>
            <a:off x="1158840" y="0"/>
            <a:ext cx="212760" cy="75564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" name="Retângulo 17"/>
          <p:cNvSpPr/>
          <p:nvPr/>
        </p:nvSpPr>
        <p:spPr>
          <a:xfrm>
            <a:off x="1335240" y="0"/>
            <a:ext cx="269640" cy="75564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" name="Conector reto 18"/>
          <p:cNvSpPr/>
          <p:nvPr/>
        </p:nvSpPr>
        <p:spPr>
          <a:xfrm>
            <a:off x="123840" y="0"/>
            <a:ext cx="0" cy="75564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" name="Conector reto 19"/>
          <p:cNvSpPr/>
          <p:nvPr/>
        </p:nvSpPr>
        <p:spPr>
          <a:xfrm>
            <a:off x="1069920" y="0"/>
            <a:ext cx="0" cy="75564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Conector reto 20"/>
          <p:cNvSpPr/>
          <p:nvPr/>
        </p:nvSpPr>
        <p:spPr>
          <a:xfrm>
            <a:off x="100008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Conector reto 23"/>
          <p:cNvSpPr/>
          <p:nvPr/>
        </p:nvSpPr>
        <p:spPr>
          <a:xfrm>
            <a:off x="2021040" y="0"/>
            <a:ext cx="0" cy="75564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" name="Conector reto 24"/>
          <p:cNvSpPr/>
          <p:nvPr/>
        </p:nvSpPr>
        <p:spPr>
          <a:xfrm>
            <a:off x="1247760" y="0"/>
            <a:ext cx="0" cy="75564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" name="Retângulo 25"/>
          <p:cNvSpPr/>
          <p:nvPr/>
        </p:nvSpPr>
        <p:spPr>
          <a:xfrm>
            <a:off x="1427040" y="0"/>
            <a:ext cx="88920" cy="75564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Elipse 26"/>
          <p:cNvSpPr/>
          <p:nvPr/>
        </p:nvSpPr>
        <p:spPr>
          <a:xfrm>
            <a:off x="712800" y="3778200"/>
            <a:ext cx="1515960" cy="1427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Elipse 27"/>
          <p:cNvSpPr/>
          <p:nvPr/>
        </p:nvSpPr>
        <p:spPr>
          <a:xfrm>
            <a:off x="1549440" y="5362560"/>
            <a:ext cx="750960" cy="7063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Elipse 28"/>
          <p:cNvSpPr/>
          <p:nvPr/>
        </p:nvSpPr>
        <p:spPr>
          <a:xfrm>
            <a:off x="1276200" y="6060960"/>
            <a:ext cx="160560" cy="1508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" name="Elipse 29"/>
          <p:cNvSpPr/>
          <p:nvPr/>
        </p:nvSpPr>
        <p:spPr>
          <a:xfrm>
            <a:off x="1947960" y="6381720"/>
            <a:ext cx="320400" cy="301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" name="Elipse 30"/>
          <p:cNvSpPr/>
          <p:nvPr/>
        </p:nvSpPr>
        <p:spPr>
          <a:xfrm>
            <a:off x="2198520" y="4935600"/>
            <a:ext cx="428760" cy="4032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" name="Conector reto 31"/>
          <p:cNvSpPr/>
          <p:nvPr/>
        </p:nvSpPr>
        <p:spPr>
          <a:xfrm>
            <a:off x="10645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9161280" y="1276200"/>
            <a:ext cx="2519280" cy="446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8406000" y="4591080"/>
            <a:ext cx="40305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568520" y="5430600"/>
            <a:ext cx="712800" cy="5698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5AF47CF-E6BA-43E3-A089-850CCC9E4883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Conector reto 15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" name="Conector reto 6"/>
          <p:cNvSpPr/>
          <p:nvPr/>
        </p:nvSpPr>
        <p:spPr>
          <a:xfrm>
            <a:off x="88920" y="0"/>
            <a:ext cx="0" cy="75564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Conector reto 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Retângulo 9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2" name="Conector reto 1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" name="Elipse 11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3918E55-18C5-4DAD-B225-2A81F386107E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6" name="Conector reto 14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Conector reto 17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Conector reto 18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Retângulo 18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0" name="Conector reto 20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1" name="Elipse 20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A3C66D-DA05-4898-84DB-F9F81CA8F97D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Conector reto 12"/>
          <p:cNvSpPr/>
          <p:nvPr/>
        </p:nvSpPr>
        <p:spPr>
          <a:xfrm>
            <a:off x="1025352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Elipse 14"/>
          <p:cNvSpPr/>
          <p:nvPr/>
        </p:nvSpPr>
        <p:spPr>
          <a:xfrm>
            <a:off x="9543960" y="6297480"/>
            <a:ext cx="641520" cy="603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5" name="Conector reto 17"/>
          <p:cNvSpPr/>
          <p:nvPr/>
        </p:nvSpPr>
        <p:spPr>
          <a:xfrm>
            <a:off x="10522080" y="0"/>
            <a:ext cx="0" cy="7556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6" name="Retângulo 17"/>
          <p:cNvSpPr/>
          <p:nvPr/>
        </p:nvSpPr>
        <p:spPr>
          <a:xfrm>
            <a:off x="10342440" y="0"/>
            <a:ext cx="357480" cy="75564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7" name="Conector reto 19"/>
          <p:cNvSpPr/>
          <p:nvPr/>
        </p:nvSpPr>
        <p:spPr>
          <a:xfrm>
            <a:off x="10431360" y="0"/>
            <a:ext cx="0" cy="75564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Conector reto 19"/>
          <p:cNvSpPr/>
          <p:nvPr/>
        </p:nvSpPr>
        <p:spPr>
          <a:xfrm>
            <a:off x="7311960" y="0"/>
            <a:ext cx="0" cy="75564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9" name="Conector reto 23"/>
          <p:cNvSpPr/>
          <p:nvPr/>
        </p:nvSpPr>
        <p:spPr>
          <a:xfrm>
            <a:off x="7245360" y="0"/>
            <a:ext cx="0" cy="75564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534600" y="1763640"/>
            <a:ext cx="873756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12840" indent="-312840"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28640" indent="-312840">
              <a:spcBef>
                <a:spcPts val="68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042920" indent="-207720">
              <a:spcBef>
                <a:spcPts val="689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355760" indent="-208080">
              <a:spcBef>
                <a:spcPts val="689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668600" indent="-208080">
              <a:spcBef>
                <a:spcPts val="689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668600" indent="-208080">
              <a:spcBef>
                <a:spcPts val="689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8949600" y="1178640"/>
            <a:ext cx="2216160" cy="449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9512280" y="6318360"/>
            <a:ext cx="712800" cy="5745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pt-BR" sz="16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28ACA13-8FCE-42FB-8D58-89704E4A83F4}" type="slidenum">
              <a:rPr b="1" lang="pt-BR" sz="16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8288280" y="4105080"/>
            <a:ext cx="3527280" cy="428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0" y="-7938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0" name="Rectangle 2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576360" y="23760"/>
            <a:ext cx="9556560" cy="728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4000" spc="-1" strike="noStrike">
                <a:solidFill>
                  <a:srgbClr val="009900"/>
                </a:solidFill>
                <a:latin typeface="Calibri"/>
              </a:rPr>
              <a:t>CONSELHO DE CLASSE PROGNÓSTICO 2023.1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Pauta da Reunião: 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1. Apresentação pela CTP da síntese dos dados coletados junto aos pais e aluno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2. Participação oral dos representantes de pais/responsáveis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3. Participação oral dos Professores Responsáveis por Turma: 3 min para cada docente;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4. Planejamento de ações para o restante do semestre 2023.1 e para a segunda etapa do semestre letivo 2023.2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0" lang="pt-BR" sz="2400" spc="-1" strike="noStrike">
                <a:solidFill>
                  <a:srgbClr val="202124"/>
                </a:solidFill>
                <a:latin typeface="Arial"/>
              </a:rPr>
              <a:t>5. Outros pontos apresentados pela Chefia do DE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                                          </a:t>
            </a:r>
            <a:r>
              <a:rPr b="1" lang="pt-BR" sz="3600" spc="-1" strike="noStrike">
                <a:solidFill>
                  <a:srgbClr val="009900"/>
                </a:solidFill>
                <a:latin typeface="Calibri"/>
              </a:rPr>
              <a:t>Data: </a:t>
            </a:r>
            <a:r>
              <a:rPr b="1" lang="pt-BR" sz="2800" spc="-1" strike="noStrike">
                <a:solidFill>
                  <a:srgbClr val="009900"/>
                </a:solidFill>
                <a:latin typeface="Calibri"/>
              </a:rPr>
              <a:t>19/04/2023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9" name="Imagem 3" descr=""/>
          <p:cNvPicPr/>
          <p:nvPr/>
        </p:nvPicPr>
        <p:blipFill>
          <a:blip r:embed="rId1"/>
          <a:srcRect l="29811" t="9323" r="31829" b="32054"/>
          <a:stretch/>
        </p:blipFill>
        <p:spPr>
          <a:xfrm>
            <a:off x="309600" y="303120"/>
            <a:ext cx="7632720" cy="4338720"/>
          </a:xfrm>
          <a:prstGeom prst="rect">
            <a:avLst/>
          </a:prstGeom>
          <a:ln w="0">
            <a:noFill/>
          </a:ln>
        </p:spPr>
      </p:pic>
      <p:pic>
        <p:nvPicPr>
          <p:cNvPr id="380" name="Imagem 5" descr=""/>
          <p:cNvPicPr/>
          <p:nvPr/>
        </p:nvPicPr>
        <p:blipFill>
          <a:blip r:embed="rId2"/>
          <a:srcRect l="29811" t="44022" r="31155" b="30857"/>
          <a:stretch/>
        </p:blipFill>
        <p:spPr>
          <a:xfrm>
            <a:off x="4773600" y="4498920"/>
            <a:ext cx="592632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2" name="Imagem 3" descr=""/>
          <p:cNvPicPr/>
          <p:nvPr/>
        </p:nvPicPr>
        <p:blipFill>
          <a:blip r:embed="rId1"/>
          <a:srcRect l="29811" t="15307" r="31155" b="20090"/>
          <a:stretch/>
        </p:blipFill>
        <p:spPr>
          <a:xfrm>
            <a:off x="93600" y="15840"/>
            <a:ext cx="7777080" cy="4554720"/>
          </a:xfrm>
          <a:prstGeom prst="rect">
            <a:avLst/>
          </a:prstGeom>
          <a:ln w="0">
            <a:noFill/>
          </a:ln>
        </p:spPr>
      </p:pic>
      <p:pic>
        <p:nvPicPr>
          <p:cNvPr id="383" name="Imagem 5" descr=""/>
          <p:cNvPicPr/>
          <p:nvPr/>
        </p:nvPicPr>
        <p:blipFill>
          <a:blip r:embed="rId2"/>
          <a:srcRect l="29811" t="65557" r="31155" b="21287"/>
          <a:stretch/>
        </p:blipFill>
        <p:spPr>
          <a:xfrm>
            <a:off x="4773600" y="4641840"/>
            <a:ext cx="554508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5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236520" y="177840"/>
            <a:ext cx="6769080" cy="4176720"/>
          </a:xfrm>
          <a:prstGeom prst="rect">
            <a:avLst/>
          </a:prstGeom>
          <a:ln w="0">
            <a:noFill/>
          </a:ln>
        </p:spPr>
      </p:pic>
      <p:pic>
        <p:nvPicPr>
          <p:cNvPr id="386" name="Imagem 5" descr=""/>
          <p:cNvPicPr/>
          <p:nvPr/>
        </p:nvPicPr>
        <p:blipFill>
          <a:blip r:embed="rId2"/>
          <a:srcRect l="29811" t="44022" r="31155" b="36841"/>
          <a:stretch/>
        </p:blipFill>
        <p:spPr>
          <a:xfrm>
            <a:off x="4486320" y="4264200"/>
            <a:ext cx="59040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8" name="Imagem 3" descr=""/>
          <p:cNvPicPr/>
          <p:nvPr/>
        </p:nvPicPr>
        <p:blipFill>
          <a:blip r:embed="rId1"/>
          <a:srcRect l="29811" t="9323" r="31155" b="36841"/>
          <a:stretch/>
        </p:blipFill>
        <p:spPr>
          <a:xfrm>
            <a:off x="309600" y="393840"/>
            <a:ext cx="7272360" cy="4176720"/>
          </a:xfrm>
          <a:prstGeom prst="rect">
            <a:avLst/>
          </a:prstGeom>
          <a:ln w="0">
            <a:noFill/>
          </a:ln>
        </p:spPr>
      </p:pic>
      <p:pic>
        <p:nvPicPr>
          <p:cNvPr id="389" name="Imagem 5" descr=""/>
          <p:cNvPicPr/>
          <p:nvPr/>
        </p:nvPicPr>
        <p:blipFill>
          <a:blip r:embed="rId2"/>
          <a:srcRect l="29811" t="46412" r="31155" b="36841"/>
          <a:stretch/>
        </p:blipFill>
        <p:spPr>
          <a:xfrm>
            <a:off x="3405240" y="4570560"/>
            <a:ext cx="6985080" cy="280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1" name="Imagem 3" descr=""/>
          <p:cNvPicPr/>
          <p:nvPr/>
        </p:nvPicPr>
        <p:blipFill>
          <a:blip r:embed="rId1"/>
          <a:srcRect l="29811" t="8126" r="30482" b="24877"/>
          <a:stretch/>
        </p:blipFill>
        <p:spPr>
          <a:xfrm>
            <a:off x="249120" y="117360"/>
            <a:ext cx="6904080" cy="4986360"/>
          </a:xfrm>
          <a:prstGeom prst="rect">
            <a:avLst/>
          </a:prstGeom>
          <a:ln w="0">
            <a:noFill/>
          </a:ln>
        </p:spPr>
      </p:pic>
      <p:pic>
        <p:nvPicPr>
          <p:cNvPr id="392" name="Imagem 5" descr=""/>
          <p:cNvPicPr/>
          <p:nvPr/>
        </p:nvPicPr>
        <p:blipFill>
          <a:blip r:embed="rId2"/>
          <a:srcRect l="29811" t="46412" r="30482" b="24877"/>
          <a:stretch/>
        </p:blipFill>
        <p:spPr>
          <a:xfrm>
            <a:off x="4054320" y="4930920"/>
            <a:ext cx="654696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Imagem 3" descr=""/>
          <p:cNvPicPr/>
          <p:nvPr/>
        </p:nvPicPr>
        <p:blipFill>
          <a:blip r:embed="rId1"/>
          <a:srcRect l="29811" t="15307" r="31155" b="35779"/>
          <a:stretch/>
        </p:blipFill>
        <p:spPr>
          <a:xfrm>
            <a:off x="380880" y="465120"/>
            <a:ext cx="7201080" cy="4051440"/>
          </a:xfrm>
          <a:prstGeom prst="rect">
            <a:avLst/>
          </a:prstGeom>
          <a:ln w="0">
            <a:noFill/>
          </a:ln>
        </p:spPr>
      </p:pic>
      <p:pic>
        <p:nvPicPr>
          <p:cNvPr id="395" name="Imagem 5" descr=""/>
          <p:cNvPicPr/>
          <p:nvPr/>
        </p:nvPicPr>
        <p:blipFill>
          <a:blip r:embed="rId2"/>
          <a:srcRect l="30482" t="44018" r="30482" b="29664"/>
          <a:stretch/>
        </p:blipFill>
        <p:spPr>
          <a:xfrm>
            <a:off x="4054320" y="4516560"/>
            <a:ext cx="6408720" cy="28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7" name="Imagem 3" descr=""/>
          <p:cNvPicPr/>
          <p:nvPr/>
        </p:nvPicPr>
        <p:blipFill>
          <a:blip r:embed="rId1"/>
          <a:srcRect l="29811" t="9323" r="30482" b="43161"/>
          <a:stretch/>
        </p:blipFill>
        <p:spPr>
          <a:xfrm>
            <a:off x="236520" y="303120"/>
            <a:ext cx="7993080" cy="4195800"/>
          </a:xfrm>
          <a:prstGeom prst="rect">
            <a:avLst/>
          </a:prstGeom>
          <a:ln w="0">
            <a:noFill/>
          </a:ln>
        </p:spPr>
      </p:pic>
      <p:pic>
        <p:nvPicPr>
          <p:cNvPr id="398" name="Imagem 5" descr=""/>
          <p:cNvPicPr/>
          <p:nvPr/>
        </p:nvPicPr>
        <p:blipFill>
          <a:blip r:embed="rId2"/>
          <a:srcRect l="30284" t="49053" r="31356" b="36593"/>
          <a:stretch/>
        </p:blipFill>
        <p:spPr>
          <a:xfrm>
            <a:off x="3478320" y="4521240"/>
            <a:ext cx="691200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0" name="Imagem 3" descr=""/>
          <p:cNvPicPr/>
          <p:nvPr/>
        </p:nvPicPr>
        <p:blipFill>
          <a:blip r:embed="rId1"/>
          <a:srcRect l="29811" t="18893" r="31155" b="26074"/>
          <a:stretch/>
        </p:blipFill>
        <p:spPr>
          <a:xfrm>
            <a:off x="309600" y="293760"/>
            <a:ext cx="9504360" cy="3946320"/>
          </a:xfrm>
          <a:prstGeom prst="rect">
            <a:avLst/>
          </a:prstGeom>
          <a:ln w="0">
            <a:noFill/>
          </a:ln>
        </p:spPr>
      </p:pic>
      <p:pic>
        <p:nvPicPr>
          <p:cNvPr id="401" name="Imagem 5" descr=""/>
          <p:cNvPicPr/>
          <p:nvPr/>
        </p:nvPicPr>
        <p:blipFill>
          <a:blip r:embed="rId2"/>
          <a:srcRect l="29811" t="35644" r="31829" b="21287"/>
          <a:stretch/>
        </p:blipFill>
        <p:spPr>
          <a:xfrm>
            <a:off x="309600" y="4240080"/>
            <a:ext cx="95043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403" name="Imagem 3" descr=""/>
          <p:cNvPicPr/>
          <p:nvPr/>
        </p:nvPicPr>
        <p:blipFill>
          <a:blip r:embed="rId1"/>
          <a:srcRect l="29138" t="57183" r="29811" b="5732"/>
          <a:stretch/>
        </p:blipFill>
        <p:spPr>
          <a:xfrm>
            <a:off x="534960" y="1582560"/>
            <a:ext cx="92073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525600" y="0"/>
            <a:ext cx="8916840" cy="6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200" spc="-1" strike="noStrike">
                <a:solidFill>
                  <a:srgbClr val="009900"/>
                </a:solidFill>
                <a:latin typeface="Calibri"/>
              </a:rPr>
              <a:t>AÇÕES DESENVOLVIDAS PELA CTP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5" name=""/>
          <p:cNvGraphicFramePr/>
          <p:nvPr/>
        </p:nvGraphicFramePr>
        <p:xfrm>
          <a:off x="165240" y="825480"/>
          <a:ext cx="10440720" cy="6950160"/>
        </p:xfrm>
        <a:graphic>
          <a:graphicData uri="http://schemas.openxmlformats.org/drawingml/2006/table">
            <a:tbl>
              <a:tblPr/>
              <a:tblGrid>
                <a:gridCol w="2119320"/>
                <a:gridCol w="2268360"/>
                <a:gridCol w="1589040"/>
                <a:gridCol w="1211400"/>
                <a:gridCol w="1663560"/>
                <a:gridCol w="1589040"/>
              </a:tblGrid>
              <a:tr h="6238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31640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momentos de atividades pedagógicas com as turmas Ingressantes dos Cursos Técnicos Integrados (2023.1), visando à permanência com êxito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em parceria com as coordenaçõe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3162240"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94, 212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. Medida de Intervenção: 04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tendimento pedagógico dos alunos avaliados no Conselho de Classe Deliberativo 2022.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(apoio grêmio e coordenaçõe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gistro do quantitativo de atendimentos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cesso SEI nº 23486.000023/2023-1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1"/>
          <p:cNvSpPr/>
          <p:nvPr/>
        </p:nvSpPr>
        <p:spPr>
          <a:xfrm>
            <a:off x="0" y="-792000"/>
            <a:ext cx="10709280" cy="91407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4768920" y="5722920"/>
            <a:ext cx="1458720" cy="158436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689040" y="1230480"/>
            <a:ext cx="86929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2280" bIns="0" anchor="ctr">
            <a:noAutofit/>
          </a:bodyPr>
          <a:p>
            <a:pPr marL="12600">
              <a:lnSpc>
                <a:spcPts val="3285"/>
              </a:lnSpc>
              <a:spcBef>
                <a:spcPts val="488"/>
              </a:spcBef>
              <a:tabLst>
                <a:tab algn="l" pos="0"/>
                <a:tab algn="l" pos="12600"/>
                <a:tab algn="l" pos="1054080"/>
                <a:tab algn="l" pos="2097000"/>
                <a:tab algn="l" pos="3139920"/>
                <a:tab algn="l" pos="4183200"/>
                <a:tab algn="l" pos="5226120"/>
                <a:tab algn="l" pos="6269040"/>
                <a:tab algn="l" pos="7311960"/>
                <a:tab algn="l" pos="8354880"/>
                <a:tab algn="l" pos="9398160"/>
                <a:tab algn="l" pos="1044108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C. CLASSE PROGNÓSTICO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5" name="Text Box 5"/>
          <p:cNvSpPr/>
          <p:nvPr/>
        </p:nvSpPr>
        <p:spPr>
          <a:xfrm>
            <a:off x="601560" y="2495520"/>
            <a:ext cx="9793440" cy="32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1520" bIns="0" anchor="t">
            <a:spAutoFit/>
          </a:bodyPr>
          <a:p>
            <a:pPr marL="11160" algn="just">
              <a:lnSpc>
                <a:spcPct val="126000"/>
              </a:lnSpc>
              <a:spcBef>
                <a:spcPts val="88"/>
              </a:spcBef>
              <a:tabLst>
                <a:tab algn="l" pos="0"/>
                <a:tab algn="l" pos="468360"/>
                <a:tab algn="l" pos="1382760"/>
                <a:tab algn="l" pos="2297160"/>
                <a:tab algn="l" pos="3211560"/>
                <a:tab algn="l" pos="4125960"/>
                <a:tab algn="l" pos="5040360"/>
                <a:tab algn="l" pos="5954760"/>
                <a:tab algn="l" pos="6869160"/>
                <a:tab algn="l" pos="7783560"/>
                <a:tab algn="l" pos="8697960"/>
                <a:tab algn="l" pos="9612360"/>
                <a:tab algn="l" pos="10526760"/>
                <a:tab algn="l" pos="1078236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agnosticar problemas cotidian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ou não,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que interferem no processo de ensino e aprendizagem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. O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resultados de desempenho acadêmico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devem ser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identificados e analisados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com vistas à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promoção de condições de recuperação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de eventuai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ificuldades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 e defasagens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de aprendizagem </a:t>
            </a:r>
            <a:r>
              <a:rPr b="0" lang="pt-BR" sz="2800" spc="-1" strike="noStrike">
                <a:solidFill>
                  <a:srgbClr val="000000"/>
                </a:solidFill>
                <a:latin typeface="Calibri"/>
              </a:rPr>
              <a:t>visando à superação da retenção e evasão estudantil em cada etapa do período letivo. </a:t>
            </a:r>
            <a:r>
              <a:rPr b="1" lang="pt-B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Text Box 1"/>
          <p:cNvSpPr/>
          <p:nvPr/>
        </p:nvSpPr>
        <p:spPr>
          <a:xfrm>
            <a:off x="534960" y="303120"/>
            <a:ext cx="891684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236520" y="754200"/>
          <a:ext cx="10369440" cy="5621040"/>
        </p:xfrm>
        <a:graphic>
          <a:graphicData uri="http://schemas.openxmlformats.org/drawingml/2006/table">
            <a:tbl>
              <a:tblPr/>
              <a:tblGrid>
                <a:gridCol w="2104920"/>
                <a:gridCol w="2252880"/>
                <a:gridCol w="1577880"/>
                <a:gridCol w="1203480"/>
                <a:gridCol w="1652400"/>
                <a:gridCol w="1577880"/>
              </a:tblGrid>
              <a:tr h="503280"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usa/ Medida de Intervenção do PP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scrição da 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ponsável (eis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eríodo de Execu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ursos Necessári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cessos de Avaliaçã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256824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ternos à  Instituição. Medida de Intervenção: MI9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omover [...] </a:t>
                      </a:r>
                      <a:r>
                        <a:rPr b="1" lang="pt-BR" sz="1400" spc="-1" strike="noStrike" u="sng">
                          <a:solidFill>
                            <a:srgbClr val="000000"/>
                          </a:solidFill>
                          <a:uFillTx/>
                          <a:latin typeface="Century Schoolbook"/>
                        </a:rPr>
                        <a:t>Reuniões de pais no início de cada período letivo para apresentar o período letivo que o filho cursará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ício do semestre 2023.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cursos audiovisuais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-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2549520"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tores Individuai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02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I24. Incentivar e acompanhar a participação dos estudantes em programas de monitorias,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ctr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TP Projeto Círculos para despert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202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terial impresso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57600" rIns="57600" tIns="0" bIns="0" anchor="t">
                      <a:noAutofit/>
                    </a:bodyPr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Quantitativo do atendimen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eedback / relato dos estudantes atendido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57600" marR="5760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1"/>
          <p:cNvSpPr/>
          <p:nvPr/>
        </p:nvSpPr>
        <p:spPr>
          <a:xfrm>
            <a:off x="1893960" y="507960"/>
            <a:ext cx="7529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200" spc="-1" strike="noStrike">
                <a:solidFill>
                  <a:srgbClr val="00b050"/>
                </a:solidFill>
                <a:latin typeface="Cambria"/>
                <a:ea typeface="Microsoft YaHei"/>
              </a:rPr>
              <a:t>ATRIBUIÇÕES DO PR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9" name="Text Box 2"/>
          <p:cNvSpPr/>
          <p:nvPr/>
        </p:nvSpPr>
        <p:spPr>
          <a:xfrm>
            <a:off x="2516040" y="5381640"/>
            <a:ext cx="3970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t">
            <a:spAutoFit/>
          </a:bodyPr>
          <a:p>
            <a:pPr marL="1260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0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0" name="Text Box 3"/>
          <p:cNvSpPr/>
          <p:nvPr/>
        </p:nvSpPr>
        <p:spPr>
          <a:xfrm>
            <a:off x="2516040" y="6305400"/>
            <a:ext cx="393840" cy="79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080" bIns="0" anchor="t">
            <a:spAutoFit/>
          </a:bodyPr>
          <a:p>
            <a:pPr marL="12600">
              <a:lnSpc>
                <a:spcPct val="101000"/>
              </a:lnSpc>
              <a:spcBef>
                <a:spcPts val="74"/>
              </a:spcBef>
              <a:tabLst>
                <a:tab algn="l" pos="0"/>
                <a:tab algn="l" pos="12600"/>
                <a:tab algn="l" pos="927000"/>
                <a:tab algn="l" pos="1841400"/>
                <a:tab algn="l" pos="2755800"/>
                <a:tab algn="l" pos="3670200"/>
                <a:tab algn="l" pos="4584600"/>
                <a:tab algn="l" pos="5499000"/>
                <a:tab algn="l" pos="6413400"/>
                <a:tab algn="l" pos="7327800"/>
                <a:tab algn="l" pos="8242200"/>
                <a:tab algn="l" pos="9156600"/>
                <a:tab algn="l" pos="10071000"/>
                <a:tab algn="l" pos="10333080"/>
                <a:tab algn="l" pos="10782360"/>
              </a:tabLst>
            </a:pPr>
            <a:r>
              <a:rPr b="0" lang="pt-BR" sz="1700" spc="-1" strike="noStrike">
                <a:solidFill>
                  <a:srgbClr val="ffffff"/>
                </a:solidFill>
                <a:latin typeface="Arial"/>
              </a:rPr>
              <a:t>11h  15h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1" name="Rectangle 4"/>
          <p:cNvSpPr/>
          <p:nvPr/>
        </p:nvSpPr>
        <p:spPr>
          <a:xfrm>
            <a:off x="200160" y="192240"/>
            <a:ext cx="1514520" cy="1353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2" name="Rectangle 5" descr=""/>
          <p:cNvPicPr/>
          <p:nvPr/>
        </p:nvPicPr>
        <p:blipFill>
          <a:blip r:embed="rId2"/>
          <a:stretch/>
        </p:blipFill>
        <p:spPr>
          <a:xfrm>
            <a:off x="1006560" y="993600"/>
            <a:ext cx="8972640" cy="675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1"/>
          <p:cNvSpPr/>
          <p:nvPr/>
        </p:nvSpPr>
        <p:spPr>
          <a:xfrm>
            <a:off x="534960" y="303120"/>
            <a:ext cx="9352080" cy="12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41480"/>
                <a:tab algn="l" pos="2084400"/>
                <a:tab algn="l" pos="3127320"/>
                <a:tab algn="l" pos="4170240"/>
                <a:tab algn="l" pos="5213520"/>
                <a:tab algn="l" pos="6256440"/>
                <a:tab algn="l" pos="7299360"/>
                <a:tab algn="l" pos="8342280"/>
                <a:tab algn="l" pos="9385200"/>
                <a:tab algn="l" pos="10428120"/>
                <a:tab algn="l" pos="10782360"/>
              </a:tabLst>
            </a:pPr>
            <a:r>
              <a:rPr b="1" lang="pt-BR" sz="3600" spc="-1" strike="noStrike">
                <a:solidFill>
                  <a:srgbClr val="00b050"/>
                </a:solidFill>
                <a:latin typeface="Cambria"/>
                <a:ea typeface="Microsoft YaHei"/>
              </a:rPr>
              <a:t>Professores Responsáveis por Turma 2023.1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14" name="Imagem 3" descr=""/>
          <p:cNvPicPr/>
          <p:nvPr/>
        </p:nvPicPr>
        <p:blipFill>
          <a:blip r:embed="rId1"/>
          <a:srcRect l="27794" t="15307" r="25774" b="12909"/>
          <a:stretch/>
        </p:blipFill>
        <p:spPr>
          <a:xfrm>
            <a:off x="165240" y="1690560"/>
            <a:ext cx="10009080" cy="55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65240" y="3201840"/>
          <a:ext cx="10369440" cy="4569120"/>
        </p:xfrm>
        <a:graphic>
          <a:graphicData uri="http://schemas.openxmlformats.org/drawingml/2006/table">
            <a:tbl>
              <a:tblPr/>
              <a:tblGrid>
                <a:gridCol w="1728720"/>
                <a:gridCol w="1727280"/>
                <a:gridCol w="1728720"/>
                <a:gridCol w="1728720"/>
                <a:gridCol w="1727280"/>
                <a:gridCol w="1728720"/>
              </a:tblGrid>
              <a:tr h="736920"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Causa/ Medida de Intervenção do PP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escrição da 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sponsável (ei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eríodo de Execu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Recursos Necessário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cessos de Avaliaçã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3832200"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MI62. Ampliar, acompanhar e avaliar o desenvolvimento de outros programas e ações que favoreçam o sucesso da aprendizagem discente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4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Professor Responsável por Turma de cada turma e demais docentes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   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Restante do semestre 2023.1 e todo o semestre letivo 2023.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61560" rIns="615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planeja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 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61560" marR="61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</a:tbl>
          </a:graphicData>
        </a:graphic>
      </p:graphicFrame>
      <p:sp>
        <p:nvSpPr>
          <p:cNvPr id="416" name="Rectangle 1"/>
          <p:cNvSpPr/>
          <p:nvPr/>
        </p:nvSpPr>
        <p:spPr>
          <a:xfrm>
            <a:off x="165240" y="338760"/>
            <a:ext cx="9864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PLANEJAMENTO PARA O SEMESTRE LETIVO 2023.2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Nome do Professor Responsável por Turma:  ____________________________             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Curso/ Turma: _________________________________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1.A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Realizar uma atividade integrada e interdisciplinar utilizando a Ferramenta Google Meet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Todas as turmas    (   ) Turma (s) específica (s). Qual (is)?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e fator (es) qualitativo (s) para a permanência e êxito esta atividade se relaciona?      (   ) Fator individual     (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) Fator interno à instituição    (    ) Fator externo à instituição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CaixaDeTexto 2"/>
          <p:cNvSpPr/>
          <p:nvPr/>
        </p:nvSpPr>
        <p:spPr>
          <a:xfrm>
            <a:off x="453960" y="1762200"/>
            <a:ext cx="907272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Art.45 Os encaminhamentos feitos nas reuniões de Conselho de Classe prognóstico deverão ser levados à turma pelo seu docente representante, pelo Coordenador do Curso ou pela CTP, conforme acordado nas reuniões de Conselho de Class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4960" y="302760"/>
            <a:ext cx="9136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entury Schoolbook"/>
              </a:rPr>
              <a:t>PROFESSOR(A) RESPONSÁVEL POR TUR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34600" y="1763640"/>
            <a:ext cx="9567720" cy="5369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algn="just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entury Schoolbook"/>
              </a:rPr>
              <a:t>Apresentação das ações executadas na etapa 1, bem como, avaliação global da turma e sugestões aos demais docentes de cada turma. </a:t>
            </a:r>
            <a:endParaRPr b="0" lang="en-US" sz="2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46320" y="3441240"/>
            <a:ext cx="8999280" cy="20876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VAMOS EM FRENTE!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SEGUIMOS COLABORANDO...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 </a:t>
            </a:r>
            <a:br>
              <a:rPr sz="3100"/>
            </a:br>
            <a:r>
              <a:rPr b="1" lang="pt-BR" sz="3100" spc="-1" strike="noStrike">
                <a:solidFill>
                  <a:srgbClr val="000000"/>
                </a:solidFill>
                <a:latin typeface="Century Schoolbook"/>
              </a:rPr>
              <a:t>ABRAÇOS DA EQUIPE CTP</a:t>
            </a:r>
            <a:endParaRPr b="0" lang="en-US" sz="31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2674440" y="5513400"/>
            <a:ext cx="722340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21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CaixaDeTexto 2" descr=""/>
          <p:cNvPicPr/>
          <p:nvPr/>
        </p:nvPicPr>
        <p:blipFill>
          <a:blip r:embed="rId1"/>
          <a:stretch/>
        </p:blipFill>
        <p:spPr>
          <a:xfrm>
            <a:off x="615960" y="1011240"/>
            <a:ext cx="924732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92040" y="1114560"/>
          <a:ext cx="10071000" cy="6443640"/>
        </p:xfrm>
        <a:graphic>
          <a:graphicData uri="http://schemas.openxmlformats.org/drawingml/2006/table">
            <a:tbl>
              <a:tblPr/>
              <a:tblGrid>
                <a:gridCol w="2014560"/>
                <a:gridCol w="2014560"/>
                <a:gridCol w="2013120"/>
                <a:gridCol w="2014560"/>
                <a:gridCol w="2014200"/>
              </a:tblGrid>
              <a:tr h="1105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23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umento de curso dando mais oportunidad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poio e orientação constante dos professores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spaço prático para aplicação das atividad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reocupação que nós pais temos em relação aos transportes (deslocamento) nos dias que eles estudam meio perí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daptação ao sistema de ensino que diferencia do sistema escolar anterior (9º ano) fundament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s oportunidades dadas a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ração do corpo docente e dis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oportunidade dada aos pais para participação junto a gestão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Gestão atuante visando os alunos e melhoria constante das dependênc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ontualidade e compromi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teração e proximidade constante em diálogos e dúvid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0" name=""/>
          <p:cNvGraphicFramePr/>
          <p:nvPr/>
        </p:nvGraphicFramePr>
        <p:xfrm>
          <a:off x="392040" y="1114560"/>
          <a:ext cx="9630000" cy="5894280"/>
        </p:xfrm>
        <a:graphic>
          <a:graphicData uri="http://schemas.openxmlformats.org/drawingml/2006/table">
            <a:tbl>
              <a:tblPr/>
              <a:tblGrid>
                <a:gridCol w="1925640"/>
                <a:gridCol w="1925640"/>
                <a:gridCol w="1927440"/>
                <a:gridCol w="1925640"/>
                <a:gridCol w="1925640"/>
              </a:tblGrid>
              <a:tr h="640440"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393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auxílio de alunos em relação à atividades que exigem o uso da internet e acesso aos portais como o Qacadêmico e a disponibilidade de materiais de apoio na biblioteca da escol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os estudantes compreenderem como funcionam os meios de avaliação do campus (como provas) e a questão de organização e otimização de temp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integração de estudantes interessados em projetos do campus e a criação de grupos de estudos inter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riação de mais projetos que envolvam a participação de alunos e a maior divulgação dest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Incentivar os alunos a participar de atividades extracurriculares que irão facilitar na naprendizagem (aulas extras, recorrer aos estudantes mais experientes)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6400" y="-360"/>
            <a:ext cx="9784080" cy="12589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400" spc="-1" strike="noStrike">
                <a:solidFill>
                  <a:srgbClr val="00b050"/>
                </a:solidFill>
                <a:latin typeface="Century Schoolbook"/>
              </a:rPr>
              <a:t>AVALIAÇÃO DOS REPRESENTANTES PAIS</a:t>
            </a:r>
            <a:endParaRPr b="0" lang="en-US" sz="3400" spc="-1" strike="noStrike">
              <a:solidFill>
                <a:srgbClr val="575f6d"/>
              </a:solidFill>
              <a:latin typeface="Century Schoolbook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196920" y="1114560"/>
          <a:ext cx="10463040" cy="6456240"/>
        </p:xfrm>
        <a:graphic>
          <a:graphicData uri="http://schemas.openxmlformats.org/drawingml/2006/table">
            <a:tbl>
              <a:tblPr/>
              <a:tblGrid>
                <a:gridCol w="2092320"/>
                <a:gridCol w="2092320"/>
                <a:gridCol w="2093760"/>
                <a:gridCol w="2092320"/>
                <a:gridCol w="2092320"/>
              </a:tblGrid>
              <a:tr h="110880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Progresso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Dificuldades de caráter geral e pedagógi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atores de sucess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4432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Dar condição ao aluno de entender o processo educacional como ferramenta de crescimento tanto de ordem cultural e intelectual, quanto de natureza moral, visto que este processo deve formar não apenas um profissional em sua área de atuação, mas também cidadãos responsáveis pela criação de uma sociedade mais equilibrada.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3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siderando o público alvo do IFCE/Caucaia, o deslocamento até a unidade escolar seria um ponto importante. A instabilidade no serviço de transporte escolar afeta o processo de aprendizado – vide horários das rotas, que afetam em especial o horário de término da aula. Do ponto de vista pedagógico, a falta do material didático que ainda não foi entregue aos alunos, vem causando certa perda de referência na assimilação dos conteúdos.</a:t>
                      </a:r>
                      <a:endParaRPr b="0" lang="en-US" sz="13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engajamento da turma no processo educacion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devido (e correto gerenciamento) dos recursos envolvidos no bom funcionamento da instituiç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O comprometimento com seu papel de EDUCADOR – não apenas de transmissor de conteúd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3" name=""/>
          <p:cNvGraphicFramePr/>
          <p:nvPr/>
        </p:nvGraphicFramePr>
        <p:xfrm>
          <a:off x="128520" y="103320"/>
          <a:ext cx="10442520" cy="733572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6109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641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2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É a transportes escolar nos dias de meio período pois os alunos so tem escolares se estudarem o período tod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a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inda não conheç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ara mim seria ótimo o estudo integral todos os di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207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interesse pela adaptação ao ensi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er mais fardas e melhoria constante nos dependências físic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alta de assessoramento e excesso de atividades no início / fase adaptação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Fornecimento de fardas necessárias, alimentação diferenciada e bem nutricional. Fornecer itens de estudo e apoio pedagógico constante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</a:tr>
              <a:tr h="208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lunos sem acesso a informações, sem uma rotina fixa de estudos e não presentes em aul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Em relação a quantidade de almoço e merenda (alguns alunos que ficam por último na fila acabaram recebendo menos alimento) e melhor cardápio para os lanches da manhã e tarde (mais variado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divulgação de livros [palavra ilegível] para facilitar os estudos e compreens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6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Maior criação de projetos capazes de conectar o conhecimento e a criatividade dos alunos, incentivando-os ao estudo de maneira dinâmica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74" name=""/>
          <p:cNvGraphicFramePr/>
          <p:nvPr/>
        </p:nvGraphicFramePr>
        <p:xfrm>
          <a:off x="128520" y="106200"/>
          <a:ext cx="10442520" cy="7104240"/>
        </p:xfrm>
        <a:graphic>
          <a:graphicData uri="http://schemas.openxmlformats.org/drawingml/2006/table">
            <a:tbl>
              <a:tblPr/>
              <a:tblGrid>
                <a:gridCol w="2611440"/>
                <a:gridCol w="2610000"/>
                <a:gridCol w="2611440"/>
                <a:gridCol w="2609640"/>
              </a:tblGrid>
              <a:tr h="36612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Fragilidades em relação a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Century Schoolbook"/>
                        </a:rPr>
                        <a:t>Sugestõ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Participação dos alun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a gestã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Century Schoolbook"/>
                        </a:rPr>
                        <a:t>Atuação docen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9ce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52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 falta de foco no processo educacional que sobre interferência de outros fatores, em especial uso inadequado dos meios de comunicação via interne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Percebo, de forma pontual, indefinição nas decisões relacionadas a algumas questões pedagógicas. Vide caso dos professores de Sociologia e História (1º período de Química), que estiveram ausentes por diversas aulas seguid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Tenho tomado conhecimento de que o controle de turma por alguns professores tem deixado a desejar. Alunos dispersos, conversas paralelas, uso de celular em sala parecem estar passando despercebido por alguns professores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Conhecer o aluno, trabalhar com um sistema educacional, criar condições para o engajamento, observar as tendências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800" spc="-1" strike="noStrike">
                          <a:solidFill>
                            <a:srgbClr val="000000"/>
                          </a:solidFill>
                          <a:latin typeface="Century Schoolbook"/>
                        </a:rPr>
                        <a:t>Antes de qualquer coisa, um trabalho conjunto entre família e comunidade escolar na conscientização da importância do processo educacional como ferramenta transformadora da sociedade, destacando na prática, casos de sucesso daqueles que já passaram pela instituição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4600" y="302760"/>
            <a:ext cx="8737560" cy="52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b050"/>
                </a:solidFill>
                <a:latin typeface="Century Schoolbook"/>
              </a:rPr>
              <a:t>PARTICIPAÇÃO ESTUDANTIL (2023.1)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Imagem 4" descr=""/>
          <p:cNvPicPr/>
          <p:nvPr/>
        </p:nvPicPr>
        <p:blipFill>
          <a:blip r:embed="rId1"/>
          <a:srcRect l="29138" t="20090" r="31155" b="20090"/>
          <a:stretch/>
        </p:blipFill>
        <p:spPr>
          <a:xfrm>
            <a:off x="236520" y="793800"/>
            <a:ext cx="6769080" cy="4424400"/>
          </a:xfrm>
          <a:prstGeom prst="rect">
            <a:avLst/>
          </a:prstGeom>
          <a:ln w="0">
            <a:noFill/>
          </a:ln>
        </p:spPr>
      </p:pic>
      <p:pic>
        <p:nvPicPr>
          <p:cNvPr id="377" name="Imagem 6" descr=""/>
          <p:cNvPicPr/>
          <p:nvPr/>
        </p:nvPicPr>
        <p:blipFill>
          <a:blip r:embed="rId2"/>
          <a:srcRect l="29811" t="57183" r="33177" b="20090"/>
          <a:stretch/>
        </p:blipFill>
        <p:spPr>
          <a:xfrm>
            <a:off x="5349960" y="4210200"/>
            <a:ext cx="476568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9-24T22:02:27Z</dcterms:created>
  <dc:creator>Katharine Magalhães</dc:creator>
  <dc:description/>
  <cp:keywords>DAEAvQC_sx0 BACRGa6bcSE</cp:keywords>
  <dc:language>en-US</dc:language>
  <cp:lastModifiedBy>Reginaldo</cp:lastModifiedBy>
  <dcterms:modified xsi:type="dcterms:W3CDTF">2023-07-17T11:53:43Z</dcterms:modified>
  <cp:revision>91</cp:revision>
  <dc:subject/>
  <dc:title>Encontro Pedagógico 2020.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0-07-01T00:00:00Z</vt:filetime>
  </property>
  <property fmtid="{D5CDD505-2E9C-101B-9397-08002B2CF9AE}" pid="3" name="Creator">
    <vt:lpwstr>Canva</vt:lpwstr>
  </property>
  <property fmtid="{D5CDD505-2E9C-101B-9397-08002B2CF9AE}" pid="4" name="LastSaved">
    <vt:filetime>2020-09-24T00:00:00Z</vt:filetime>
  </property>
</Properties>
</file>